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091-B3FF-4E69-993D-546F7D51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7B1-2174-4B77-BFC1-EFEF5E87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A6D-3D52-4C6F-B158-FFD0A9F8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935-CAED-480D-8DAD-1255D4DB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E0B-BB9B-4F40-8260-2B064B59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7A7A-063B-4135-B5DD-AEF5356D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1B0C-95E1-4E4B-B02A-31DD079D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1F6E-F33D-4EC6-83A9-B3AC5E1C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268A-A06A-415B-9BD2-0A438337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2BD-39C3-4081-9546-4BDC59AE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9E28-C546-4109-91F3-6460CFA6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679-0E40-4543-AD8E-E559D54F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A0C0-B85D-4888-9841-CCC2B185F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0.jpeg"/><Relationship Id="rId4" Type="http://schemas.openxmlformats.org/officeDocument/2006/relationships/image" Target="../media/image12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4419360"/>
            <a:ext cx="5791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lin Sans FB"/>
              </a:rPr>
              <a:t>Combin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 rot="20562600">
            <a:off x="-305280" y="1370880"/>
            <a:ext cx="50626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Berlin Sans FB"/>
              </a:rPr>
              <a:t>Combin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391400">
            <a:off x="3505320" y="3123720"/>
            <a:ext cx="27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Berlin Sans FB"/>
              </a:rPr>
              <a:t>Comb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1066680"/>
            <a:ext cx="390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Berlin Sans FB"/>
              </a:rPr>
              <a:t>Combi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14040" y="54100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chocolate fudg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chocolate%20topping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952880" cy="3297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51814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whipped cre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reddiwip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362124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5181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and a cher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Cherry" descr=""/>
          <p:cNvPicPr/>
          <p:nvPr/>
        </p:nvPicPr>
        <p:blipFill>
          <a:blip r:embed="rId1"/>
          <a:stretch/>
        </p:blipFill>
        <p:spPr>
          <a:xfrm>
            <a:off x="3505320" y="1143000"/>
            <a:ext cx="208908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905120" y="5867280"/>
            <a:ext cx="533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A chocolate sun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Cherry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01916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chocolate%20sundae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1897200" cy="3475080"/>
          </a:xfrm>
          <a:prstGeom prst="rect">
            <a:avLst/>
          </a:prstGeom>
          <a:ln w="0">
            <a:noFill/>
          </a:ln>
        </p:spPr>
      </p:pic>
      <p:pic>
        <p:nvPicPr>
          <p:cNvPr id="84" name="ice_cream_commercial_vanilla" descr=""/>
          <p:cNvPicPr/>
          <p:nvPr/>
        </p:nvPicPr>
        <p:blipFill>
          <a:blip r:embed="rId3"/>
          <a:stretch/>
        </p:blipFill>
        <p:spPr>
          <a:xfrm>
            <a:off x="533520" y="533520"/>
            <a:ext cx="1252440" cy="1179360"/>
          </a:xfrm>
          <a:prstGeom prst="rect">
            <a:avLst/>
          </a:prstGeom>
          <a:ln w="0">
            <a:noFill/>
          </a:ln>
        </p:spPr>
      </p:pic>
      <p:pic>
        <p:nvPicPr>
          <p:cNvPr id="85" name="reddiwip" descr=""/>
          <p:cNvPicPr/>
          <p:nvPr/>
        </p:nvPicPr>
        <p:blipFill>
          <a:blip r:embed="rId4"/>
          <a:stretch/>
        </p:blipFill>
        <p:spPr>
          <a:xfrm>
            <a:off x="4724280" y="0"/>
            <a:ext cx="1943280" cy="2028960"/>
          </a:xfrm>
          <a:prstGeom prst="rect">
            <a:avLst/>
          </a:prstGeom>
          <a:ln w="0">
            <a:noFill/>
          </a:ln>
        </p:spPr>
      </p:pic>
      <p:pic>
        <p:nvPicPr>
          <p:cNvPr id="86" name="chocolate%20topping" descr=""/>
          <p:cNvPicPr/>
          <p:nvPr/>
        </p:nvPicPr>
        <p:blipFill>
          <a:blip r:embed="rId5"/>
          <a:stretch/>
        </p:blipFill>
        <p:spPr>
          <a:xfrm>
            <a:off x="2590920" y="685800"/>
            <a:ext cx="1218960" cy="811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051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1066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188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1880" y="1066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Can you think of another combin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Who can tell me the meaning of combi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Great Job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hanks for watc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you get when you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b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09680" y="5410080"/>
            <a:ext cx="50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frit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ritos-original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2336760" cy="3262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90720" y="50292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and chi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canned%20chile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2789280" cy="1589040"/>
          </a:xfrm>
          <a:prstGeom prst="rect">
            <a:avLst/>
          </a:prstGeom>
          <a:ln w="0">
            <a:noFill/>
          </a:ln>
        </p:spPr>
      </p:pic>
      <p:pic>
        <p:nvPicPr>
          <p:cNvPr id="50" name="chile" descr=""/>
          <p:cNvPicPr/>
          <p:nvPr/>
        </p:nvPicPr>
        <p:blipFill>
          <a:blip r:embed="rId2"/>
          <a:stretch/>
        </p:blipFill>
        <p:spPr>
          <a:xfrm>
            <a:off x="4038480" y="1981080"/>
            <a:ext cx="3429000" cy="2398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95280" y="617220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A frito 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fritopie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4496040" cy="4473720"/>
          </a:xfrm>
          <a:prstGeom prst="rect">
            <a:avLst/>
          </a:prstGeom>
          <a:ln w="0">
            <a:noFill/>
          </a:ln>
        </p:spPr>
      </p:pic>
      <p:pic>
        <p:nvPicPr>
          <p:cNvPr id="53" name="frito%20pie" descr=""/>
          <p:cNvPicPr/>
          <p:nvPr/>
        </p:nvPicPr>
        <p:blipFill>
          <a:blip r:embed="rId2"/>
          <a:stretch/>
        </p:blipFill>
        <p:spPr>
          <a:xfrm>
            <a:off x="2057400" y="3022560"/>
            <a:ext cx="4419720" cy="2984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you get when you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bin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54860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graham crack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graham%20cracker" descr=""/>
          <p:cNvPicPr/>
          <p:nvPr/>
        </p:nvPicPr>
        <p:blipFill>
          <a:blip r:embed="rId1"/>
          <a:stretch/>
        </p:blipFill>
        <p:spPr>
          <a:xfrm>
            <a:off x="2133720" y="1957320"/>
            <a:ext cx="4647960" cy="3094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5638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a chocolate ba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hershey's%20chocolate%20bar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5371920" cy="4653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54860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and a roasted marshmallow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ini-Smores-Grill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2120" y="563868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yummy sm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mores%201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276360" cy="2577960"/>
          </a:xfrm>
          <a:prstGeom prst="rect">
            <a:avLst/>
          </a:prstGeom>
          <a:ln w="0">
            <a:noFill/>
          </a:ln>
        </p:spPr>
      </p:pic>
      <p:pic>
        <p:nvPicPr>
          <p:cNvPr id="63" name="graham%20cracker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905120" cy="1268280"/>
          </a:xfrm>
          <a:prstGeom prst="rect">
            <a:avLst/>
          </a:prstGeom>
          <a:ln w="0">
            <a:noFill/>
          </a:ln>
        </p:spPr>
      </p:pic>
      <p:pic>
        <p:nvPicPr>
          <p:cNvPr id="64" name="hershey's%20chocolate%20bar" descr=""/>
          <p:cNvPicPr/>
          <p:nvPr/>
        </p:nvPicPr>
        <p:blipFill>
          <a:blip r:embed="rId3"/>
          <a:stretch/>
        </p:blipFill>
        <p:spPr>
          <a:xfrm>
            <a:off x="3124080" y="228600"/>
            <a:ext cx="2133720" cy="1849320"/>
          </a:xfrm>
          <a:prstGeom prst="rect">
            <a:avLst/>
          </a:prstGeom>
          <a:ln w="0">
            <a:noFill/>
          </a:ln>
        </p:spPr>
      </p:pic>
      <p:pic>
        <p:nvPicPr>
          <p:cNvPr id="65" name="Mini-Smores-Grill" descr=""/>
          <p:cNvPicPr/>
          <p:nvPr/>
        </p:nvPicPr>
        <p:blipFill>
          <a:blip r:embed="rId4"/>
          <a:stretch/>
        </p:blipFill>
        <p:spPr>
          <a:xfrm>
            <a:off x="6095880" y="4572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386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1143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1143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29600" y="121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229600" y="1066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you get when you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bi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502920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ice cre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ice_cream_commercial_vanilla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960640" cy="2789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2:20:01Z</dcterms:created>
  <dc:creator>Lydia Sanchez</dc:creator>
  <dc:description/>
  <dc:language>en-US</dc:language>
  <cp:lastModifiedBy>Lydia Sanchez</cp:lastModifiedBy>
  <dcterms:modified xsi:type="dcterms:W3CDTF">2011-04-07T03:21:55Z</dcterms:modified>
  <cp:revision>6</cp:revision>
  <dc:subject/>
  <dc:title>Let’s Define the Word Combination</dc:title>
</cp:coreProperties>
</file>